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move the slide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8BD1D-C1B7-403A-8267-689D715BC560}" type="slidenum">
              <a:rPr b="0" lang="fi-FI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Dian numeron paikkamerkki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AF8EF-8603-43C3-A0A9-4B2C496D7953}" type="slidenum">
              <a:rPr b="0" lang="fi-FI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Dian numeron paikkamerkki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86210-47C7-4688-93E9-034FE7E63D00}" type="slidenum">
              <a:rPr b="0" lang="fi-FI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Dian numeron paikkamerkki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C7963-B8A0-4AA9-AC61-BDBDB79BB941}" type="slidenum">
              <a:rPr b="0" lang="fi-FI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Dian numeron paikkamerkki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BC854-600B-4269-B9D7-7A5FE80C95AA}" type="slidenum">
              <a:rPr b="0" lang="fi-FI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Dian numeron paikkamerkki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07ECF-D2BD-4614-A11F-98E8F6DDDB3D}" type="slidenum">
              <a:rPr b="0" lang="fi-FI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Dian numeron paikkamerkki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E7D04-F30D-46FF-9DCD-BFD717BFAF9B}" type="slidenum">
              <a:rPr b="0" lang="fi-FI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Dian numeron paikkamerkki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127F6-CEE1-49D3-8E79-974002E2AE07}" type="slidenum">
              <a:rPr b="0" lang="fi-FI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Dian numeron paikkamerkki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5EF49-893B-478D-A411-5FDC25A0DFC6}" type="slidenum">
              <a:rPr b="0" lang="fi-FI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FA0B7-8BE1-47E6-9299-37855AF37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98528-E386-4DE1-863E-CC3B14E65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CADDC-474A-41F2-8089-52A78FDDB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9B3C1-20E6-4F84-96A7-8701815AE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D8687-31F9-4887-8D9F-4B003E532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83777-4946-45AA-A604-595C5DB69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BED4C-AE5D-43FA-8B61-70D22D955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4E52E-FC76-4C31-A35C-DACE578A2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0185F-FF56-4A68-9681-7B4E2E138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25A60-075B-4047-A413-E9DBC7898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0ED79-8822-4F06-B18C-7D1CEAC44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7C0B4-777B-4178-9855-2A2590B18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22A2B-2CD4-4628-A702-B7EBF65F2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1C02F-BC26-4CF7-8689-0E1C46651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C6D74-5425-47F1-9C15-B463D5922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7BD95-73F6-4E27-9618-73373E1E0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01E94-B37A-4A20-A4F0-2C3928DBD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52AF0-9B89-4F6F-A114-24C15C778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24780-EE9C-4A90-AA71-D8B8D2D77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B41BF-261F-42A4-818E-7B3AA8DBB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8FF2A-C5AF-4C4C-83A3-B37CA0923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C9ED1-3DE2-400D-8A63-5DE2454A2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719A8-87DE-4A47-B846-4019B8E22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11C33-4864-4A85-87EC-2261E85A0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bcbcbc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8CED9-60C0-43C3-921F-341AFEF2124C}" type="slidenum">
              <a:rPr b="0" lang="fi-FI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bcbcbc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0DF3C-83DC-4271-8964-C48647345D86}" type="slidenum">
              <a:rPr b="0" lang="fi-FI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turkuenergia.fi/index.php?page=312fcb1be0018a35895f59c24bac587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Otsikko 1" descr=""/>
          <p:cNvPicPr/>
          <p:nvPr/>
        </p:nvPicPr>
        <p:blipFill>
          <a:blip r:embed="rId1"/>
          <a:stretch/>
        </p:blipFill>
        <p:spPr>
          <a:xfrm>
            <a:off x="493560" y="1420920"/>
            <a:ext cx="7785360" cy="16938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" descr=""/>
          <p:cNvPicPr/>
          <p:nvPr/>
        </p:nvPicPr>
        <p:blipFill>
          <a:blip r:embed="rId2"/>
          <a:srcRect l="0" t="0" r="920" b="50005"/>
          <a:stretch/>
        </p:blipFill>
        <p:spPr>
          <a:xfrm>
            <a:off x="1785960" y="3143160"/>
            <a:ext cx="5624640" cy="1838520"/>
          </a:xfrm>
          <a:prstGeom prst="rect">
            <a:avLst/>
          </a:prstGeom>
          <a:ln w="0">
            <a:noFill/>
          </a:ln>
        </p:spPr>
      </p:pic>
      <p:sp>
        <p:nvSpPr>
          <p:cNvPr id="91" name="Suora yhdysviiva 5"/>
          <p:cNvSpPr/>
          <p:nvPr/>
        </p:nvSpPr>
        <p:spPr>
          <a:xfrm>
            <a:off x="1857240" y="5000760"/>
            <a:ext cx="450072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 u="sng">
                <a:solidFill>
                  <a:srgbClr val="410082"/>
                </a:solidFill>
                <a:uFillTx/>
                <a:latin typeface="Book Antiqua"/>
                <a:hlinkClick r:id="rId1"/>
              </a:rPr>
              <a:t>Eri laitteiden sähkötehoja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ff"/>
                </a:solidFill>
                <a:latin typeface="Book Antiqua"/>
              </a:rPr>
              <a:t>Pöytätietokone on joka neljännen kerrostalokodin sähkösyöpöin laite. Tuoreen tutkimuksen mukaan pöytäkone kuluttaa keskimäärin 500 kWh vuodessa, mikä vastaa jääkaappipakastimen kulutusta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Otsikko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 txBox="1"/>
          <p:nvPr/>
        </p:nvSpPr>
        <p:spPr>
          <a:xfrm>
            <a:off x="42876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36400" indent="-40284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ffffff"/>
                </a:solidFill>
                <a:latin typeface="Book Antiqua"/>
              </a:rPr>
              <a:t>Sähkölaitteiden teho ilmoitetaan watteina (W) tai kilowatteina (kW). 1 kilowatti = 1000 wattia. Sähköä kuluu yhden kilowatin verran, kun yhden kilowatin (kW) eli 1000 watin (W) tehoista laitetta käytetään yksi tunti. 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36400" indent="-40284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ffffff"/>
                </a:solidFill>
                <a:latin typeface="Book Antiqua"/>
              </a:rPr>
              <a:t>Kun lasket kulutusta, on teho aina muunnettava wateista kilowateiksi ja käyttöaika tunneiksi.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36400" indent="-40284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ffffff"/>
                </a:solidFill>
                <a:latin typeface="Book Antiqua"/>
              </a:rPr>
              <a:t>Saat muutettua kulutuksen euroiksi ja senteiksi, kun kerrot sen oman sähkötuotteesi kWh-hinnalla. Esimerkki:1 kWh x 10 snt/kWh = 10 snt ,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36400" indent="-40284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Otsikko 1" descr=""/>
          <p:cNvPicPr/>
          <p:nvPr/>
        </p:nvPicPr>
        <p:blipFill>
          <a:blip r:embed="rId1"/>
          <a:stretch/>
        </p:blipFill>
        <p:spPr>
          <a:xfrm>
            <a:off x="324000" y="268200"/>
            <a:ext cx="8582040" cy="11588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509040" indent="-3823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ff"/>
                </a:solidFill>
                <a:latin typeface="Book Antiqua"/>
              </a:rPr>
              <a:t>Valmiustilojen kulutustehoissa on eroja. Esim. TV vie keskimäärin 5W ja video 6W. Kellot, radiot ja tietokoneet vie keskimäärin hieman alle 2W. Stereosarjat vie jopa 10W valmiustilassaan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09040" indent="-3823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ff"/>
                </a:solidFill>
                <a:latin typeface="Book Antiqua"/>
              </a:rPr>
              <a:t>20 sähkölaitetta valmiustilassa aiheuttaa  900kWh :n vuosikulutuksen– euroina siis jotain 90 euroa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09040" indent="-3823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ff"/>
                </a:solidFill>
                <a:latin typeface="Book Antiqua"/>
              </a:rPr>
              <a:t>Valmiustilojen arvioitiin kuluttavan Suomessa vuonna 2000 noin 500 000 000 kWh eli lähes </a:t>
            </a:r>
            <a:r>
              <a:rPr b="1" lang="fi-FI" sz="2800" spc="-1" strike="noStrike">
                <a:solidFill>
                  <a:srgbClr val="ffffff"/>
                </a:solidFill>
                <a:latin typeface="Book Antiqua"/>
              </a:rPr>
              <a:t>puolet kulutuselektroniikkalaitteiden kokonaiskulutuksesta</a:t>
            </a:r>
            <a:r>
              <a:rPr b="0" lang="fi-FI" sz="2800" spc="-1" strike="noStrike">
                <a:solidFill>
                  <a:srgbClr val="ffffff"/>
                </a:solidFill>
                <a:latin typeface="Book Antiqu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Otsikko 1" descr=""/>
          <p:cNvPicPr/>
          <p:nvPr/>
        </p:nvPicPr>
        <p:blipFill>
          <a:blip r:embed="rId1"/>
          <a:stretch/>
        </p:blipFill>
        <p:spPr>
          <a:xfrm>
            <a:off x="420840" y="-6480"/>
            <a:ext cx="8296200" cy="1158840"/>
          </a:xfrm>
          <a:prstGeom prst="rect">
            <a:avLst/>
          </a:prstGeom>
          <a:ln w="0">
            <a:noFill/>
          </a:ln>
        </p:spPr>
      </p:pic>
      <p:sp>
        <p:nvSpPr>
          <p:cNvPr id="98" name="Tekstikehys 2"/>
          <p:cNvSpPr/>
          <p:nvPr/>
        </p:nvSpPr>
        <p:spPr>
          <a:xfrm>
            <a:off x="-413280" y="928800"/>
            <a:ext cx="103611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ffffff"/>
                </a:solidFill>
                <a:latin typeface="Arial"/>
              </a:rPr>
              <a:t>Kun katsot tv:tä  3 h päivässä. Television teho on 100W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ffffff"/>
                </a:solidFill>
                <a:latin typeface="Arial"/>
              </a:rPr>
              <a:t>Kun  kahvinkeitin on päällä 1h päivässä. Kahvinkeittimen teh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ffffff"/>
                </a:solidFill>
                <a:latin typeface="Arial"/>
              </a:rPr>
              <a:t>on 800W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ffffff"/>
                </a:solidFill>
                <a:latin typeface="Arial"/>
              </a:rPr>
              <a:t>3. Kun imuroit 2 h viikossa. Imurin teho on 2000W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ffffff"/>
                </a:solidFill>
                <a:latin typeface="Arial"/>
              </a:rPr>
              <a:t>4. Käytät sähkösaunaa 4 h viikossa. Sähkökiukaan teho on 5000 W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ffffff"/>
                </a:solidFill>
                <a:latin typeface="Arial"/>
              </a:rPr>
              <a:t>5.Lukulamppusi on päällä 5h päivässä. Lukulampun teho on 60 W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kstikehys 3"/>
          <p:cNvSpPr/>
          <p:nvPr/>
        </p:nvSpPr>
        <p:spPr>
          <a:xfrm>
            <a:off x="29520" y="5715000"/>
            <a:ext cx="9147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Arial"/>
              </a:rPr>
              <a:t>8. </a:t>
            </a:r>
            <a:r>
              <a:rPr b="0" lang="fi-FI" sz="2000" spc="-1" strike="noStrike">
                <a:solidFill>
                  <a:srgbClr val="ffffff"/>
                </a:solidFill>
                <a:latin typeface="Arial"/>
              </a:rPr>
              <a:t>Vaihdat 60 W:n hehkulamput 11 W:n energiansäästölampuiksi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ffffff"/>
                </a:solidFill>
                <a:latin typeface="Arial"/>
              </a:rPr>
              <a:t>Sinulla on kotona 15 hehkulamppua. Jos jokainen lamppu on päällä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ffffff"/>
                </a:solidFill>
                <a:latin typeface="Arial"/>
              </a:rPr>
              <a:t>Keskimäärin 3h päivässä, kuinka paljon säästät sähkölaskussa vuoden aikana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kstikehys 4"/>
          <p:cNvSpPr/>
          <p:nvPr/>
        </p:nvSpPr>
        <p:spPr>
          <a:xfrm>
            <a:off x="40680" y="3786120"/>
            <a:ext cx="854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ffffff"/>
                </a:solidFill>
                <a:latin typeface="Arial"/>
              </a:rPr>
              <a:t>6. Luokassa olevien loisteputkien teho on 18 W. Kuinka palj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i-FI" sz="2400" spc="-1" strike="noStrike">
                <a:solidFill>
                  <a:srgbClr val="ffffff"/>
                </a:solidFill>
                <a:latin typeface="Arial"/>
              </a:rPr>
              <a:t>luokan valaistus maksaa kuukaudessa, jos lamput ova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ffffff"/>
                </a:solidFill>
                <a:latin typeface="Arial"/>
              </a:rPr>
              <a:t>päällä 6h koulupäivinä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kstikehys 5"/>
          <p:cNvSpPr/>
          <p:nvPr/>
        </p:nvSpPr>
        <p:spPr>
          <a:xfrm>
            <a:off x="51480" y="4929120"/>
            <a:ext cx="8825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0" lang="fi-FI" sz="1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fi-FI" sz="2400" spc="-1" strike="noStrike">
                <a:solidFill>
                  <a:srgbClr val="ffffff"/>
                </a:solidFill>
                <a:latin typeface="Arial"/>
              </a:rPr>
              <a:t>Jos koulussa on 15 samanlaista luokkaa, kuinka paljon raha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ffffff"/>
                </a:solidFill>
                <a:latin typeface="Arial"/>
              </a:rPr>
              <a:t>kuluu koulun valaistukseen vuodessa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kstikehys 6"/>
          <p:cNvSpPr/>
          <p:nvPr/>
        </p:nvSpPr>
        <p:spPr>
          <a:xfrm>
            <a:off x="800640" y="785880"/>
            <a:ext cx="325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i-FI" sz="2800" spc="-1" strike="noStrike">
                <a:solidFill>
                  <a:srgbClr val="ffffff"/>
                </a:solidFill>
                <a:latin typeface="Arial"/>
              </a:rPr>
              <a:t>kWh:n hinta 10 snt</a:t>
            </a:r>
            <a:r>
              <a:rPr b="0" lang="fi-FI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Otsikko 1" descr=""/>
          <p:cNvPicPr/>
          <p:nvPr/>
        </p:nvPicPr>
        <p:blipFill>
          <a:blip r:embed="rId1"/>
          <a:stretch/>
        </p:blipFill>
        <p:spPr>
          <a:xfrm>
            <a:off x="384120" y="268200"/>
            <a:ext cx="8461440" cy="1158840"/>
          </a:xfrm>
          <a:prstGeom prst="rect">
            <a:avLst/>
          </a:prstGeom>
          <a:ln w="0">
            <a:noFill/>
          </a:ln>
        </p:spPr>
      </p:pic>
      <p:sp>
        <p:nvSpPr>
          <p:cNvPr id="104" name="Tekstikehys 2"/>
          <p:cNvSpPr/>
          <p:nvPr/>
        </p:nvSpPr>
        <p:spPr>
          <a:xfrm>
            <a:off x="468720" y="1500120"/>
            <a:ext cx="774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ff"/>
                </a:solidFill>
                <a:latin typeface="Arial"/>
              </a:rPr>
              <a:t>1. Muuta watit kilowateiksi jakamalla tuhannell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kstikehys 3"/>
          <p:cNvSpPr/>
          <p:nvPr/>
        </p:nvSpPr>
        <p:spPr>
          <a:xfrm>
            <a:off x="519840" y="2286000"/>
            <a:ext cx="402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ff"/>
                </a:solidFill>
                <a:latin typeface="Arial"/>
              </a:rPr>
              <a:t>2. Muuta aika tunneiksi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kstikehys 4"/>
          <p:cNvSpPr/>
          <p:nvPr/>
        </p:nvSpPr>
        <p:spPr>
          <a:xfrm>
            <a:off x="580680" y="3000240"/>
            <a:ext cx="7782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ff"/>
                </a:solidFill>
                <a:latin typeface="Arial"/>
              </a:rPr>
              <a:t>3. Laske kWh:ien lukumäärä kertomalla kilowat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i-FI" sz="2800" spc="-1" strike="noStrike">
                <a:solidFill>
                  <a:srgbClr val="ffffff"/>
                </a:solidFill>
                <a:latin typeface="Arial"/>
              </a:rPr>
              <a:t>ja aika tunteina</a:t>
            </a:r>
            <a:r>
              <a:rPr b="0" lang="fi-FI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kstikehys 6"/>
          <p:cNvSpPr/>
          <p:nvPr/>
        </p:nvSpPr>
        <p:spPr>
          <a:xfrm>
            <a:off x="544320" y="4214880"/>
            <a:ext cx="8521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ff"/>
                </a:solidFill>
                <a:latin typeface="Arial"/>
              </a:rPr>
              <a:t>4. Kerro kWh:ien lukumäärä  sähköenergian hinnalla</a:t>
            </a:r>
            <a:r>
              <a:rPr b="0" lang="fi-FI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Suorakulmio 1"/>
          <p:cNvSpPr/>
          <p:nvPr/>
        </p:nvSpPr>
        <p:spPr>
          <a:xfrm>
            <a:off x="1643040" y="1000080"/>
            <a:ext cx="6643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ffffff"/>
                </a:solidFill>
                <a:latin typeface="Franklin Gothic Book"/>
              </a:rPr>
              <a:t>Käytät puolen tunnin  ajan hiustenkuivaajaa, joka on teholtaan 1000 W. 1 kWh:n hinta on 10 s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Suorakulmio 2"/>
          <p:cNvSpPr/>
          <p:nvPr/>
        </p:nvSpPr>
        <p:spPr>
          <a:xfrm>
            <a:off x="1714680" y="2643120"/>
            <a:ext cx="70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ff"/>
                </a:solidFill>
                <a:latin typeface="Franklin Gothic Book"/>
              </a:rPr>
              <a:t>1. Teho kilowateiksi: 1000 w = 1k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kstikehys 4"/>
          <p:cNvSpPr/>
          <p:nvPr/>
        </p:nvSpPr>
        <p:spPr>
          <a:xfrm>
            <a:off x="1729080" y="3429000"/>
            <a:ext cx="506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ff"/>
                </a:solidFill>
                <a:latin typeface="Arial"/>
              </a:rPr>
              <a:t>2. Aika tunneiksi: = ½ h = 0,5 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kstikehys 5"/>
          <p:cNvSpPr/>
          <p:nvPr/>
        </p:nvSpPr>
        <p:spPr>
          <a:xfrm>
            <a:off x="1671120" y="4214880"/>
            <a:ext cx="566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ff"/>
                </a:solidFill>
                <a:latin typeface="Arial"/>
              </a:rPr>
              <a:t>3. Kulutus = 1 kWh</a:t>
            </a:r>
            <a:r>
              <a:rPr b="0" lang="fi-FI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∙ 0,5 h = 0,5 kW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Tekstikehys 6"/>
          <p:cNvSpPr/>
          <p:nvPr/>
        </p:nvSpPr>
        <p:spPr>
          <a:xfrm>
            <a:off x="1735200" y="4929120"/>
            <a:ext cx="441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ff"/>
                </a:solidFill>
                <a:latin typeface="Arial"/>
              </a:rPr>
              <a:t>4. Hinta = 0,5 </a:t>
            </a:r>
            <a:r>
              <a:rPr b="0" lang="fi-FI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∙10 snt = 5 s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Suorakulmio 1"/>
          <p:cNvSpPr/>
          <p:nvPr/>
        </p:nvSpPr>
        <p:spPr>
          <a:xfrm>
            <a:off x="1500120" y="428760"/>
            <a:ext cx="59295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ffffff"/>
                </a:solidFill>
                <a:latin typeface="Franklin Gothic Book"/>
              </a:rPr>
              <a:t>Käytät kymmenen minuutin ajan kahvinkeitintä, joka on teholtaan 1200 W. IkWh:n hinta on 10 s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Tekstikehys 3"/>
          <p:cNvSpPr/>
          <p:nvPr/>
        </p:nvSpPr>
        <p:spPr>
          <a:xfrm>
            <a:off x="1603800" y="5357880"/>
            <a:ext cx="487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ff"/>
                </a:solidFill>
                <a:latin typeface="Franklin Gothic Book"/>
              </a:rPr>
              <a:t>4. Hinta =0,2 · 10snt = 20 s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kstikehys 4"/>
          <p:cNvSpPr/>
          <p:nvPr/>
        </p:nvSpPr>
        <p:spPr>
          <a:xfrm>
            <a:off x="1580400" y="2500200"/>
            <a:ext cx="638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ff"/>
                </a:solidFill>
                <a:latin typeface="Arial"/>
              </a:rPr>
              <a:t>1. Teho kilowatteina:1200 W = 1,2 kW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kstikehys 5"/>
          <p:cNvSpPr/>
          <p:nvPr/>
        </p:nvSpPr>
        <p:spPr>
          <a:xfrm>
            <a:off x="1592640" y="3429000"/>
            <a:ext cx="629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ff"/>
                </a:solidFill>
                <a:latin typeface="Arial"/>
              </a:rPr>
              <a:t>2. Aika tunteina:10 min = 1/6 h = 0,17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Tekstikehys 6"/>
          <p:cNvSpPr/>
          <p:nvPr/>
        </p:nvSpPr>
        <p:spPr>
          <a:xfrm>
            <a:off x="1601280" y="4429080"/>
            <a:ext cx="625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ff"/>
                </a:solidFill>
                <a:latin typeface="Arial"/>
              </a:rPr>
              <a:t>3.  Kulutus = 1,2 kWh </a:t>
            </a:r>
            <a:r>
              <a:rPr b="0" lang="fi-FI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∙0,17 h = 0,2 kW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6T14:16:47Z</dcterms:created>
  <dc:creator>Ritva Tamminen</dc:creator>
  <dc:description/>
  <dc:language>en-US</dc:language>
  <cp:lastModifiedBy>Ritva Tamminen</cp:lastModifiedBy>
  <dcterms:modified xsi:type="dcterms:W3CDTF">2010-01-24T08:42:34Z</dcterms:modified>
  <cp:revision>11</cp:revision>
  <dc:subject/>
  <dc:title>Puimuri - kaava</dc:title>
</cp:coreProperties>
</file>